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85F-3054-4E50-814D-86B89A77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484-0C26-4F16-A10E-29A1634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2C4-641F-4579-A183-128FF0C8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D12-F828-43A2-B78D-20DFA340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8A7-90C9-45F3-8BED-4D6A8D2E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7F2-023D-47D1-97C1-56F5941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826-0B36-4D13-923E-714722A9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43D-7B5C-4F5D-8DBB-802B3CF0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C2C-9B6C-4D49-BACF-B3EE9A2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385-9CAC-4204-ABCB-D28A9EE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1D9-B1C2-4625-A9F0-D2A127D6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61D-5251-4CC2-8C5D-7C6EA574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5A2C-3D09-4906-947A-2DF15ECF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52:45Z</dcterms:modified>
  <cp:revision>8</cp:revision>
  <dc:subject/>
  <dc:title>Le chien</dc:title>
</cp:coreProperties>
</file>